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B5CD-B31E-403F-A28F-7DCB190B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F648-0A82-4E1E-81A0-3DE1AAF8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A71B-741C-4D2F-8DD3-C86138C0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67D-98AB-4265-AAF6-1CDD9885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117D-2ACC-40B9-B9F0-F6C00BEE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B1EA-F8DD-4346-8538-F94E5140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3E86-CD4D-4248-BF4A-58110FC3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0C63-3568-4786-A525-63F208C4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1649-0852-4342-88B8-F9E12E2B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395A-EE43-4718-8F91-90703085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0EE9-91A8-4171-999A-82636BDC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296E-CA39-43C3-9D5E-390CB34B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4C9E-E4B4-4BDD-81D5-010F4C7A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2140-ED96-4F81-9B5B-7ABA9C7E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D607-FEA6-490B-B92E-8EB4E22E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E32E-F770-426C-A82B-436CC06D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0271-D507-468D-953F-85B38572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69E-EA12-4840-A87D-A3DD677A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6423-376F-4AD7-9A84-05D0ED6C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6D9E-8CAE-4C3D-BB5E-0F2705DF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4E64-AF6F-45AA-BD47-387C27A6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DAB3-BA00-4B1C-AD6B-0BE6EEC7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991F-490A-420E-A669-1DB42590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2B55-894C-4DC4-9268-4FD9062E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: Triangle Inequa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D03E-5ACC-4EF8-A125-FCAFB51A9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: Triangle Inequa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1E1E-DD07-433F-BC02-48046B81C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: Triangle Inequa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96AB-8347-4A33-9ED8-0020DAC85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Triangle  Inequaliti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: Triangle Inequa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8F8A-BC1E-48F1-B57D-46595CE81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85800" y="914400"/>
            <a:ext cx="563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iangle Ine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28600" y="1752480"/>
            <a:ext cx="8534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mallest side is across from the smallest ang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rgest angle is across from the largest 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 rot="17863200">
            <a:off x="5144400" y="4609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 = 4.3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 rot="1914000">
            <a:off x="6933600" y="44193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C = 3.2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 rot="19851000">
            <a:off x="6629760" y="5562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C = 5.3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 flipV="1">
            <a:off x="6629400" y="4647960"/>
            <a:ext cx="914400" cy="99036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7162920" y="4724280"/>
            <a:ext cx="152280" cy="9144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15"/>
          <p:cNvGraphicFramePr/>
          <p:nvPr/>
        </p:nvGraphicFramePr>
        <p:xfrm>
          <a:off x="804960" y="2209680"/>
          <a:ext cx="707544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4960" y="2209680"/>
                    <a:ext cx="70754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17"/>
          <p:cNvGraphicFramePr/>
          <p:nvPr/>
        </p:nvGraphicFramePr>
        <p:xfrm>
          <a:off x="973080" y="3352680"/>
          <a:ext cx="6892920" cy="56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3080" y="3352680"/>
                    <a:ext cx="689292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" name="Group 20"/>
          <p:cNvGrpSpPr/>
          <p:nvPr/>
        </p:nvGrpSpPr>
        <p:grpSpPr>
          <a:xfrm>
            <a:off x="5562720" y="3733920"/>
            <a:ext cx="3276360" cy="2658960"/>
            <a:chOff x="5562720" y="3733920"/>
            <a:chExt cx="3276360" cy="2658960"/>
          </a:xfrm>
        </p:grpSpPr>
        <p:sp>
          <p:nvSpPr>
            <p:cNvPr id="106" name="AutoShape 19"/>
            <p:cNvSpPr/>
            <p:nvPr/>
          </p:nvSpPr>
          <p:spPr>
            <a:xfrm>
              <a:off x="5562720" y="3733920"/>
              <a:ext cx="3276360" cy="26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>
              <a:off x="6997680" y="4286160"/>
              <a:ext cx="1406520" cy="750960"/>
            </a:xfrm>
            <a:prstGeom prst="line">
              <a:avLst/>
            </a:prstGeom>
            <a:ln w="39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 flipH="1">
              <a:off x="6022800" y="4286160"/>
              <a:ext cx="974880" cy="1922400"/>
            </a:xfrm>
            <a:prstGeom prst="line">
              <a:avLst/>
            </a:prstGeom>
            <a:ln w="39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 flipH="1">
              <a:off x="6022440" y="5037120"/>
              <a:ext cx="2381400" cy="1171440"/>
            </a:xfrm>
            <a:prstGeom prst="line">
              <a:avLst/>
            </a:prstGeom>
            <a:ln w="39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4"/>
            <p:cNvSpPr/>
            <p:nvPr/>
          </p:nvSpPr>
          <p:spPr>
            <a:xfrm>
              <a:off x="7797600" y="491796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5"/>
            <p:cNvSpPr/>
            <p:nvPr/>
          </p:nvSpPr>
          <p:spPr>
            <a:xfrm>
              <a:off x="8083440" y="489276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6"/>
            <p:cNvSpPr/>
            <p:nvPr/>
          </p:nvSpPr>
          <p:spPr>
            <a:xfrm>
              <a:off x="6481440" y="564192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7"/>
            <p:cNvSpPr/>
            <p:nvPr/>
          </p:nvSpPr>
          <p:spPr>
            <a:xfrm>
              <a:off x="6767640" y="561672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8"/>
            <p:cNvSpPr/>
            <p:nvPr/>
          </p:nvSpPr>
          <p:spPr>
            <a:xfrm>
              <a:off x="6994440" y="447048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89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9"/>
            <p:cNvSpPr/>
            <p:nvPr/>
          </p:nvSpPr>
          <p:spPr>
            <a:xfrm>
              <a:off x="7282080" y="444492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0"/>
            <p:cNvSpPr/>
            <p:nvPr/>
          </p:nvSpPr>
          <p:spPr>
            <a:xfrm>
              <a:off x="6970680" y="4260960"/>
              <a:ext cx="65160" cy="648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6824880" y="386568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2"/>
            <p:cNvSpPr/>
            <p:nvPr/>
          </p:nvSpPr>
          <p:spPr>
            <a:xfrm>
              <a:off x="8379000" y="5010120"/>
              <a:ext cx="64800" cy="666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8561520" y="490536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4"/>
            <p:cNvSpPr/>
            <p:nvPr/>
          </p:nvSpPr>
          <p:spPr>
            <a:xfrm>
              <a:off x="5997600" y="6181560"/>
              <a:ext cx="65160" cy="66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5757480" y="588024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: Triangle Inequa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E482-09C7-43A4-8528-8AFFD4323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angle Inequality –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xamples…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04920" y="1828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For the triangle, list the angles in order from least to greatest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7"/>
          <p:cNvGrpSpPr/>
          <p:nvPr/>
        </p:nvGrpSpPr>
        <p:grpSpPr>
          <a:xfrm>
            <a:off x="6400800" y="2209680"/>
            <a:ext cx="2504880" cy="1990800"/>
            <a:chOff x="6400800" y="2209680"/>
            <a:chExt cx="2504880" cy="1990800"/>
          </a:xfrm>
        </p:grpSpPr>
        <p:sp>
          <p:nvSpPr>
            <p:cNvPr id="127" name="AutoShape 6"/>
            <p:cNvSpPr/>
            <p:nvPr/>
          </p:nvSpPr>
          <p:spPr>
            <a:xfrm>
              <a:off x="6400800" y="2209680"/>
              <a:ext cx="2504880" cy="19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8"/>
            <p:cNvSpPr/>
            <p:nvPr/>
          </p:nvSpPr>
          <p:spPr>
            <a:xfrm flipH="1">
              <a:off x="6676920" y="3943080"/>
              <a:ext cx="1914480" cy="97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9"/>
            <p:cNvSpPr/>
            <p:nvPr/>
          </p:nvSpPr>
          <p:spPr>
            <a:xfrm flipH="1">
              <a:off x="6676920" y="2543040"/>
              <a:ext cx="447840" cy="14097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0"/>
            <p:cNvSpPr/>
            <p:nvPr/>
          </p:nvSpPr>
          <p:spPr>
            <a:xfrm>
              <a:off x="7124760" y="2543040"/>
              <a:ext cx="1466640" cy="14000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1"/>
            <p:cNvSpPr/>
            <p:nvPr/>
          </p:nvSpPr>
          <p:spPr>
            <a:xfrm>
              <a:off x="8572320" y="392436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2"/>
            <p:cNvSpPr/>
            <p:nvPr/>
          </p:nvSpPr>
          <p:spPr>
            <a:xfrm>
              <a:off x="8658000" y="38480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"/>
            <p:cNvSpPr/>
            <p:nvPr/>
          </p:nvSpPr>
          <p:spPr>
            <a:xfrm>
              <a:off x="6657840" y="393372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4"/>
            <p:cNvSpPr/>
            <p:nvPr/>
          </p:nvSpPr>
          <p:spPr>
            <a:xfrm>
              <a:off x="6438960" y="37144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5"/>
            <p:cNvSpPr/>
            <p:nvPr/>
          </p:nvSpPr>
          <p:spPr>
            <a:xfrm>
              <a:off x="7105680" y="252396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6"/>
            <p:cNvSpPr/>
            <p:nvPr/>
          </p:nvSpPr>
          <p:spPr>
            <a:xfrm>
              <a:off x="6953040" y="22381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7"/>
          <p:cNvSpPr/>
          <p:nvPr/>
        </p:nvSpPr>
        <p:spPr>
          <a:xfrm rot="17605200">
            <a:off x="6249600" y="2818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 rot="3139800">
            <a:off x="7542720" y="281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7162920" y="3962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20"/>
          <p:cNvGraphicFramePr/>
          <p:nvPr/>
        </p:nvGraphicFramePr>
        <p:xfrm>
          <a:off x="304920" y="4267080"/>
          <a:ext cx="807696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267080"/>
                    <a:ext cx="807696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: Triangle Inequa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2154-C8DA-4A04-80F4-7C107D3C8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angle Inequality –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xamples…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52280" y="1752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For the triangle, list the sides in order from shortest to longest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7"/>
          <p:cNvGrpSpPr/>
          <p:nvPr/>
        </p:nvGrpSpPr>
        <p:grpSpPr>
          <a:xfrm>
            <a:off x="5562720" y="2209680"/>
            <a:ext cx="3580920" cy="3038400"/>
            <a:chOff x="5562720" y="2209680"/>
            <a:chExt cx="3580920" cy="3038400"/>
          </a:xfrm>
        </p:grpSpPr>
        <p:sp>
          <p:nvSpPr>
            <p:cNvPr id="147" name="AutoShape 8"/>
            <p:cNvSpPr/>
            <p:nvPr/>
          </p:nvSpPr>
          <p:spPr>
            <a:xfrm>
              <a:off x="5562720" y="2209680"/>
              <a:ext cx="3580920" cy="30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9"/>
            <p:cNvSpPr/>
            <p:nvPr/>
          </p:nvSpPr>
          <p:spPr>
            <a:xfrm flipH="1">
              <a:off x="6475680" y="4744080"/>
              <a:ext cx="1679400" cy="38160"/>
            </a:xfrm>
            <a:prstGeom prst="line">
              <a:avLst/>
            </a:prstGeom>
            <a:ln w="39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0"/>
            <p:cNvSpPr/>
            <p:nvPr/>
          </p:nvSpPr>
          <p:spPr>
            <a:xfrm flipH="1">
              <a:off x="6476040" y="3012480"/>
              <a:ext cx="876960" cy="1770120"/>
            </a:xfrm>
            <a:prstGeom prst="line">
              <a:avLst/>
            </a:prstGeom>
            <a:ln w="39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1"/>
            <p:cNvSpPr/>
            <p:nvPr/>
          </p:nvSpPr>
          <p:spPr>
            <a:xfrm>
              <a:off x="7353360" y="3012480"/>
              <a:ext cx="802080" cy="1731600"/>
            </a:xfrm>
            <a:prstGeom prst="line">
              <a:avLst/>
            </a:prstGeom>
            <a:ln w="39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2"/>
            <p:cNvSpPr/>
            <p:nvPr/>
          </p:nvSpPr>
          <p:spPr>
            <a:xfrm>
              <a:off x="7485120" y="2433600"/>
              <a:ext cx="563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8x-1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3"/>
            <p:cNvSpPr/>
            <p:nvPr/>
          </p:nvSpPr>
          <p:spPr>
            <a:xfrm>
              <a:off x="5825160" y="3886920"/>
              <a:ext cx="498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7x+6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4"/>
            <p:cNvSpPr/>
            <p:nvPr/>
          </p:nvSpPr>
          <p:spPr>
            <a:xfrm>
              <a:off x="8230320" y="4185360"/>
              <a:ext cx="498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7x+8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"/>
            <p:cNvSpPr/>
            <p:nvPr/>
          </p:nvSpPr>
          <p:spPr>
            <a:xfrm>
              <a:off x="8117280" y="4707720"/>
              <a:ext cx="94680" cy="92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6"/>
            <p:cNvSpPr/>
            <p:nvPr/>
          </p:nvSpPr>
          <p:spPr>
            <a:xfrm>
              <a:off x="8285760" y="455868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7"/>
            <p:cNvSpPr/>
            <p:nvPr/>
          </p:nvSpPr>
          <p:spPr>
            <a:xfrm>
              <a:off x="6439680" y="4744080"/>
              <a:ext cx="92520" cy="946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8"/>
            <p:cNvSpPr/>
            <p:nvPr/>
          </p:nvSpPr>
          <p:spPr>
            <a:xfrm>
              <a:off x="6009840" y="431676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9"/>
            <p:cNvSpPr/>
            <p:nvPr/>
          </p:nvSpPr>
          <p:spPr>
            <a:xfrm>
              <a:off x="7317000" y="2973960"/>
              <a:ext cx="92520" cy="92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7017480" y="241560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21"/>
          <p:cNvSpPr/>
          <p:nvPr/>
        </p:nvSpPr>
        <p:spPr>
          <a:xfrm>
            <a:off x="304920" y="2286000"/>
            <a:ext cx="47242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7x + 8) ° + (7x + 6 ) ° + (8x – 10 ) ° = 1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2 x + 4 = 18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x =  1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3048120" y="3124080"/>
            <a:ext cx="2514600" cy="132624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&lt;C = 7x + 8 = 64 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&lt;A = 7x + 6 = 62 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&lt;B = 8x – 10 = 54 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7543800" y="4419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4 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4"/>
          <p:cNvSpPr/>
          <p:nvPr/>
        </p:nvSpPr>
        <p:spPr>
          <a:xfrm>
            <a:off x="6553080" y="44197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2 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5"/>
          <p:cNvSpPr/>
          <p:nvPr/>
        </p:nvSpPr>
        <p:spPr>
          <a:xfrm>
            <a:off x="7086600" y="3276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4 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26"/>
          <p:cNvGraphicFramePr/>
          <p:nvPr/>
        </p:nvGraphicFramePr>
        <p:xfrm>
          <a:off x="609480" y="4800600"/>
          <a:ext cx="6721560" cy="150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0600"/>
                    <a:ext cx="672156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: Triangle Inequa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7A70-2DDF-46A7-97A1-D2CC93418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057400" y="38098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pendicular segment from a point to a line is the shortest segment from the point to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28600" y="3733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Corollary 1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2133720" y="5197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pendicular segment from a point to a plane is the shortest segment from the point to the pl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04920" y="5181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Corollary 2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1981080" y="20574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ne angle of a triangle is larger than a second angle, then the side opposite the first angle is larger than the side opposite the second ang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04920" y="19810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Conve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57200" y="6094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verse Theorem &amp; Coroll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: Triangle Inequa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6982-F393-484F-88C4-6A4398B2F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iangle Inequality Theorem: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m of the lengths of any two sides of a triangle is greater than the length of the third s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019920" y="2438280"/>
            <a:ext cx="2590560" cy="20289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1523880" y="2666880"/>
            <a:ext cx="2819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b &gt;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c &gt;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+ c &gt;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228600" y="4267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1676520" y="42670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if it is possible to draw a triangle with side measures 12, 11, and 1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4952880" y="4724280"/>
            <a:ext cx="3124440" cy="157212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+ 11 &gt; 17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+ 17 &gt; 1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+ 17 &gt; 1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228600" y="5334120"/>
            <a:ext cx="4572000" cy="459720"/>
          </a:xfrm>
          <a:prstGeom prst="rect">
            <a:avLst/>
          </a:prstGeom>
          <a:solidFill>
            <a:srgbClr val="d6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 a triangle can be dra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: Triangle Inequa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9F5C-CF39-41A1-9721-D5945FBA5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ing the range of the third si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third side cannot be larger than the other two added together, we find the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axim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 by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d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two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28600" y="2590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third side and the smallest side cannot be larger than the other side, we find the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inim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 by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ubtrac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two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28600" y="3657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600200" y="365760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triangle with sides of length 3 and 8, find the range of possible values for the third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228600" y="4419720"/>
            <a:ext cx="457200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ximum value (if x is the largest side of the triangl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+ 8 &gt;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 &gt;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4343400" y="4419720"/>
            <a:ext cx="4572000" cy="11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nimum value (if x is not that largest side of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∆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8 – 3 &gt;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5&gt;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2209680" y="5715000"/>
            <a:ext cx="4953240" cy="459720"/>
          </a:xfrm>
          <a:prstGeom prst="rect">
            <a:avLst/>
          </a:pr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Range of the third side is 5 &lt; x &lt; 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4343400" y="44197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7T18:13:34Z</dcterms:created>
  <dc:creator>HCPS</dc:creator>
  <dc:description/>
  <dc:language>en-US</dc:language>
  <cp:lastModifiedBy>BeasoA</cp:lastModifiedBy>
  <dcterms:modified xsi:type="dcterms:W3CDTF">2010-10-20T13:46:08Z</dcterms:modified>
  <cp:revision>49</cp:revision>
  <dc:subject/>
  <dc:title>Triangle Inequality</dc:title>
</cp:coreProperties>
</file>